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CD6-D685-4233-9CBD-11E53B1E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D53-B9C0-443A-A54E-17438576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4B-59C6-4060-8CC5-8CA90AC4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F8B-A14F-41C3-952A-A5B94685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C7FE-465B-4D06-B038-1DE1F430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7A1B-FBB0-4A80-863F-1F62B03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363-CAFA-444F-8033-8C733A86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8E1-2856-46BD-AF8A-5AB01340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050-13F8-467C-8E5B-2EF83F0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3E07-3789-404A-A956-BB456137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F5E6-110A-4E67-B0BA-A1C2759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E1A-28C8-47BB-87C6-835DDD43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9E3E-6D0D-40F2-BFE7-2A686CF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8FD-88CA-48F5-9DDD-2C1AED9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6528-A0BA-4AE2-91ED-942E4C9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6E0D-D723-4A78-930C-E13BD886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AE74-8E23-475A-B501-5E371BA1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C07-6547-4816-8DE0-EC3459D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024-4EF7-49C6-A73C-153019A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D4E-EACE-47CF-957B-3765A7B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A9C-5377-4329-8CC4-AEC743B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F4D-10DD-42B5-903C-8615BF6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58D-9A15-4745-BFEA-B5A3EF6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3FA-3F2E-4312-A6DC-B673094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219920" y="0"/>
              <a:ext cx="5355360" cy="4251240"/>
            </a:xfrm>
            <a:custGeom>
              <a:avLst/>
              <a:gdLst>
                <a:gd name="textAreaLeft" fmla="*/ 0 w 5355360"/>
                <a:gd name="textAreaRight" fmla="*/ 5355360 w 535536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782560" y="0"/>
              <a:ext cx="980280" cy="1654200"/>
            </a:xfrm>
            <a:custGeom>
              <a:avLst/>
              <a:gdLst>
                <a:gd name="textAreaLeft" fmla="*/ 0 w 980280"/>
                <a:gd name="textAreaRight" fmla="*/ 980640 w 980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895320" cy="295920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895320" cy="212256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895320" cy="65700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792840" y="0"/>
              <a:ext cx="3105720" cy="3911760"/>
            </a:xfrm>
            <a:custGeom>
              <a:avLst/>
              <a:gdLst>
                <a:gd name="textAreaLeft" fmla="*/ 0 w 3105720"/>
                <a:gd name="textAreaRight" fmla="*/ 3106080 w 310572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8072640" y="0"/>
              <a:ext cx="1826280" cy="3073320"/>
            </a:xfrm>
            <a:custGeom>
              <a:avLst/>
              <a:gdLst>
                <a:gd name="textAreaLeft" fmla="*/ 0 w 1826280"/>
                <a:gd name="textAreaRight" fmla="*/ 1826640 w 18262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002-09A8-43FE-BC50-7F00FFDAA4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4219920" y="0"/>
              <a:ext cx="5355360" cy="4251240"/>
            </a:xfrm>
            <a:custGeom>
              <a:avLst/>
              <a:gdLst>
                <a:gd name="textAreaLeft" fmla="*/ 0 w 5355360"/>
                <a:gd name="textAreaRight" fmla="*/ 5355360 w 535536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782560" y="0"/>
              <a:ext cx="980280" cy="1654200"/>
            </a:xfrm>
            <a:custGeom>
              <a:avLst/>
              <a:gdLst>
                <a:gd name="textAreaLeft" fmla="*/ 0 w 980280"/>
                <a:gd name="textAreaRight" fmla="*/ 980640 w 9802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895320" cy="295920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895320" cy="212256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895320" cy="657000"/>
            </a:xfrm>
            <a:custGeom>
              <a:avLst/>
              <a:gdLst>
                <a:gd name="textAreaLeft" fmla="*/ 0 w 9895320"/>
                <a:gd name="textAreaRight" fmla="*/ 9895320 w 98953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792840" y="0"/>
              <a:ext cx="3105720" cy="3911760"/>
            </a:xfrm>
            <a:custGeom>
              <a:avLst/>
              <a:gdLst>
                <a:gd name="textAreaLeft" fmla="*/ 0 w 3105720"/>
                <a:gd name="textAreaRight" fmla="*/ 3106080 w 310572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8072640" y="0"/>
              <a:ext cx="1826280" cy="3073320"/>
            </a:xfrm>
            <a:custGeom>
              <a:avLst/>
              <a:gdLst>
                <a:gd name="textAreaLeft" fmla="*/ 0 w 1826280"/>
                <a:gd name="textAreaRight" fmla="*/ 1826640 w 18262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37F2-2E66-4DAC-AC42-8F095689897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0" y="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ДОЈ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0" y="1428840"/>
            <a:ext cx="10096560" cy="65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Главну с</a:t>
            </a:r>
            <a:r>
              <a:rPr b="1" i="1" lang="sr-RS" sz="36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i="1" lang="sr-RS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т</a:t>
            </a:r>
            <a:r>
              <a:rPr b="1" i="1" lang="sr-RS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рu дојке чин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ж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ршно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масно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ћелијско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п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убок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масно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ћелијско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сциј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ХОРМО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ЕОПХОД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ЛАКТОГЕНЕЗ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428760"/>
            <a:ext cx="9906120" cy="10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страдио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гестеро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хибитор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ациј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имулиш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рн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ума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лацент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оге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хибир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сули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ијабетичарк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тежан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ац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ртизо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следиц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рођајно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ес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ума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ормо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ст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аратхорм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1281240" y="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ТВАРАЊ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ЛЕ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ЛАКТОГЕН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0" y="1143000"/>
            <a:ext cx="9906120" cy="9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пител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вар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с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исели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ратк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нц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рвоток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псорбу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г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следиц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тензив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нтез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НК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варањ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Arial"/>
              </a:rPr>
              <a:t>лакталбумина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еопхода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нтез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оз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већа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центра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цитрат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лукоз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лобод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осфат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алцијум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ад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pH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ред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етвар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лицер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албу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глобул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вар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минокисели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лаз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лучен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к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бсорбу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ечност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јо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еонаталн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јејунум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држав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RS" sz="2800" spc="-1" strike="noStrike">
                <a:solidFill>
                  <a:srgbClr val="ffff00"/>
                </a:solidFill>
                <a:latin typeface="Arial"/>
              </a:rPr>
              <a:t>Ig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8"/>
          <p:cNvSpPr/>
          <p:nvPr/>
        </p:nvSpPr>
        <p:spPr>
          <a:xfrm>
            <a:off x="0" y="357120"/>
            <a:ext cx="9906120" cy="14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актациј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азивај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флуктуац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во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његов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азал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ојење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азва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хиперпролактинеми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тимулус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лвеолар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ћел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личи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лученог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завис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ирект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нцентрац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лученог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колик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аз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креци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еста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ад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во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нтрол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крец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хипоталамус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ек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ИФ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нхибишућег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фактор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0" y="0"/>
            <a:ext cx="99979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ФАКТОРИ</a:t>
            </a:r>
            <a:r>
              <a:rPr b="1" lang="sr-Latn-C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КОЈИ</a:t>
            </a:r>
            <a:r>
              <a:rPr b="1" lang="sr-Latn-C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УТИЧУ</a:t>
            </a:r>
            <a:r>
              <a:rPr b="1" lang="sr-Latn-C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СЕКРЕЦИЈУ</a:t>
            </a:r>
            <a:r>
              <a:rPr b="1" lang="sr-Latn-C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100" spc="-1" strike="noStrike">
                <a:solidFill>
                  <a:srgbClr val="ff0000"/>
                </a:solidFill>
                <a:latin typeface="Arial"/>
              </a:rPr>
              <a:t>ПРОЛАКТИН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8600" y="1484280"/>
            <a:ext cx="941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Физиолошки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Фармаколошки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  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Фармаколо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стимуланси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     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стимуланси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           </a:t>
            </a:r>
            <a:r>
              <a:rPr b="1" lang="sr-RS" sz="2400" spc="-1" strike="noStrike">
                <a:solidFill>
                  <a:srgbClr val="33cc33"/>
                </a:solidFill>
                <a:latin typeface="Arial"/>
              </a:rPr>
              <a:t>супрес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12760" y="2384280"/>
            <a:ext cx="299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Дој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тимулациј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дој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трес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ол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од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рудноћ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368520" y="2384280"/>
            <a:ext cx="38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Неуролепт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Р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етоклопрам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Естроге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Хипоглик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Фенотијаз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Бутирофен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Норепинеф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Хиста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Ацетилхо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792840" y="2384280"/>
            <a:ext cx="311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До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Раж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главиц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(2-</a:t>
            </a:r>
            <a:r>
              <a:rPr b="0" lang="sr-Latn-RS" sz="2400" spc="-1" strike="noStrike">
                <a:solidFill>
                  <a:srgbClr val="ffff00"/>
                </a:solidFill>
                <a:latin typeface="Arial"/>
              </a:rPr>
              <a:t>Br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Latn-RS" sz="2400" spc="-1" strike="noStrike">
                <a:solidFill>
                  <a:srgbClr val="ffff00"/>
                </a:solidFill>
                <a:latin typeface="Arial"/>
              </a:rPr>
              <a:t>rgokriptin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ломифен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цитрат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иридокс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Инхибито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А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стаглан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309600" y="0"/>
            <a:ext cx="93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ОТПУШТАЊ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ЛЕ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ГАЛАКТОКИН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928800"/>
            <a:ext cx="99061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Излазак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кроз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брадавицу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под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контро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неурохуморалног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рефлекс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Сисањ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стимулиш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завршетк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сензорних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нерав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брадав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Нерв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импулс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длаз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кичмену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мождину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даљ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до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симпатичког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паравентрикуларног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једр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хипоталам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Аксоним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вих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једар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надражај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путуј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до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задње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режњ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хипофиз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дакл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дпушта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кситоцин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ктопептид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Окситоци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проузрокуј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контракције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миоепителних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0" y="-500040"/>
            <a:ext cx="10137600" cy="12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ци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злик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ог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азва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нзитив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имулис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изуел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лфакто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актил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удитив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већав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ток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рв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ро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ојк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њихо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емператур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траху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тер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хваљујућ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њем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в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5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ањ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спраз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90%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ој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сл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1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ањ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центра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дентич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ни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рођ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ко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5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аза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дренал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тил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кохол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локир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тпушта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пија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ндорфи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ес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локир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тпушт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281240" y="0"/>
            <a:ext cx="74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КОНТИНУИРАНО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ТВАРАЊЕМЛ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ГАЛАКТОПО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1413000"/>
            <a:ext cx="99061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држава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а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вис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тинуира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ферент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ут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радавиц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од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оталам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дражај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азив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еки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оничк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хиби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офиз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хибирајућ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ормо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ксимал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10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четк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ањ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ко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3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ат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азал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72"/>
          <p:cNvSpPr/>
          <p:nvPr/>
        </p:nvSpPr>
        <p:spPr>
          <a:xfrm>
            <a:off x="1018080" y="641520"/>
            <a:ext cx="72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sr-RS" sz="2800" spc="-1" strike="noStrike">
                <a:solidFill>
                  <a:srgbClr val="33cc33"/>
                </a:solidFill>
                <a:latin typeface="Arial"/>
              </a:rPr>
              <a:t>Колострум</a:t>
            </a:r>
            <a:r>
              <a:rPr b="1" lang="sr-Latn-CS" sz="2800" spc="-1" strike="noStrike">
                <a:solidFill>
                  <a:srgbClr val="33cc33"/>
                </a:solidFill>
                <a:latin typeface="Arial"/>
              </a:rPr>
              <a:t>                          </a:t>
            </a:r>
            <a:r>
              <a:rPr b="1" lang="sr-RS" sz="2800" spc="-1" strike="noStrike">
                <a:solidFill>
                  <a:srgbClr val="33cc33"/>
                </a:solidFill>
                <a:latin typeface="Arial"/>
              </a:rPr>
              <a:t>Зрело</a:t>
            </a:r>
            <a:r>
              <a:rPr b="1" lang="sr-Latn-C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33cc33"/>
                </a:solidFill>
                <a:latin typeface="Arial"/>
              </a:rPr>
              <a:t>мле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3"/>
          <p:cNvSpPr/>
          <p:nvPr/>
        </p:nvSpPr>
        <p:spPr>
          <a:xfrm>
            <a:off x="1071720" y="1592280"/>
            <a:ext cx="431316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Највећ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ценат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ак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теи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RS" sz="2400" spc="-1" strike="noStrike">
                <a:solidFill>
                  <a:srgbClr val="ffff00"/>
                </a:solidFill>
                <a:latin typeface="Arial"/>
              </a:rPr>
              <a:t>Ig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Фосфолип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Холестер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олострумс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елаш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Бет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ар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4"/>
          <p:cNvSpPr/>
          <p:nvPr/>
        </p:nvSpPr>
        <p:spPr>
          <a:xfrm>
            <a:off x="5457960" y="1592280"/>
            <a:ext cx="47527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Вод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87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Чврст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атер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ипид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 12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леч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шећер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6,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аст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3,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теи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2,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0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Витам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Хорм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Имунолошк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омпонен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6"/>
          <p:cNvSpPr/>
          <p:nvPr/>
        </p:nvSpPr>
        <p:spPr>
          <a:xfrm flipV="1">
            <a:off x="1424160" y="2349000"/>
            <a:ext cx="215640" cy="28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7"/>
          <p:cNvSpPr/>
          <p:nvPr/>
        </p:nvSpPr>
        <p:spPr>
          <a:xfrm flipV="1">
            <a:off x="1424160" y="2852640"/>
            <a:ext cx="21564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 flipV="1">
            <a:off x="1424160" y="3357720"/>
            <a:ext cx="21564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79"/>
          <p:cNvSpPr/>
          <p:nvPr/>
        </p:nvSpPr>
        <p:spPr>
          <a:xfrm>
            <a:off x="1424160" y="4005360"/>
            <a:ext cx="21564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8"/>
          <p:cNvSpPr/>
          <p:nvPr/>
        </p:nvSpPr>
        <p:spPr>
          <a:xfrm>
            <a:off x="1881360" y="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ЗАВРШЕТАК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ЛАКТ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0" y="1071720"/>
            <a:ext cx="10121760" cy="9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мање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реквен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до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мањен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че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ксито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к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купљ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мен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већа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јача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итисак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мпромиту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циркулац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еген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есквам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степе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есорп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остал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ериалвеоларн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кив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већав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иброз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иф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езив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с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к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ес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кохол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цигарет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брзав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в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це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поптоз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8"/>
          <p:cNvSpPr/>
          <p:nvPr/>
        </p:nvSpPr>
        <p:spPr>
          <a:xfrm>
            <a:off x="2295360" y="476280"/>
            <a:ext cx="53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ЗАВРШЕТАК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ЛАКТ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0" y="1844640"/>
            <a:ext cx="101217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понта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нволутив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цес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авањ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естроге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Оестрадиол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10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г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/ 3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оз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авањ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ромкрипти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ромергон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2,5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г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/ 2x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ОРФ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РПУ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428840"/>
            <a:ext cx="9906120" cy="82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Две главне структур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аренхи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л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д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кив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o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убул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o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уктал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исте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тром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езив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кив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ас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кив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в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имф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удов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ерв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лак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730960" y="47628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РЕДНОСТ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72880" y="1467000"/>
            <a:ext cx="97776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НУТРИТИВ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ЗН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ИМУНОЛОШК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ЗН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ПСИХОЛОШК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Arial"/>
              </a:rPr>
              <a:t>ЗНАЧА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52520" y="1989000"/>
          <a:ext cx="7346880" cy="3243240"/>
        </p:xfrm>
        <a:graphic>
          <a:graphicData uri="http://schemas.openxmlformats.org/drawingml/2006/table">
            <a:tbl>
              <a:tblPr/>
              <a:tblGrid>
                <a:gridCol w="2449440"/>
                <a:gridCol w="2448000"/>
                <a:gridCol w="24494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stoj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leko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um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ravl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oda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st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Šećer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azein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ktalbumin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peo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1831680" y="54936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КОНТРАЦЕПЦИЈ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28520" y="2060640"/>
            <a:ext cx="97776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ФИЗИОЛОШК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НТРАУТЕРИ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ЛОШ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ХОРМОНСК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НТРАЦЕПТИВ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ТАБЛ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846720" y="549360"/>
            <a:ext cx="77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УЕРПЕРИЈУ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992160" y="1989000"/>
            <a:ext cx="8624880" cy="42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Г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АКТЕРИЈСК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ЕРМАТИТ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ИРУС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ЕРМАТИТИС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ТАКТ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ЕРМАТИТИС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УЕРПЕРАЛ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СТИТ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ПСЦЕС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ОЈ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АЛАКТОЦ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ЕКРЕЦИЈ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ЛЕЧН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0" y="642960"/>
            <a:ext cx="10137600" cy="82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Галакторе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арактериш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понтано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крецијо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радав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овише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с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релациј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оличино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злуче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ајчешћ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друже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менорејо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704880" y="0"/>
            <a:ext cx="88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ОГУЋ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ЗРО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0"/>
            <a:ext cx="10137600" cy="11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ден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офи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окал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имул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рада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оталамичк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исфунк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еков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енотијаз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ициклични антидепресив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еофил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мфетами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h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d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траутери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лошц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акр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biocup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ултипл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клероз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sr-Latn-R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ov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hiarri-Frommel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ндр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ерзистент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већа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ојк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меноре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ојазност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отиреоид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704880" y="0"/>
            <a:ext cx="88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ДИОПАТС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ГАЛАКТОРЕ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620640"/>
            <a:ext cx="10137600" cy="11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Хиперпролактинемија</a:t>
            </a:r>
            <a:r>
              <a:rPr b="1" i="1" lang="sr-Latn-CS" sz="3200" spc="-1" strike="noStrike">
                <a:solidFill>
                  <a:srgbClr val="00ff00"/>
                </a:solidFill>
                <a:latin typeface="Arial"/>
              </a:rPr>
              <a:t> - </a:t>
            </a: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очувани</a:t>
            </a:r>
            <a:r>
              <a:rPr b="1" i="1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менструал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                                       </a:t>
            </a:r>
            <a:r>
              <a:rPr b="1" i="1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циклуси</a:t>
            </a:r>
            <a:r>
              <a:rPr b="1" i="1" lang="sr-Latn-CS" sz="3200" spc="-1" strike="noStrike">
                <a:solidFill>
                  <a:srgbClr val="00ff00"/>
                </a:solidFill>
                <a:latin typeface="Arial"/>
              </a:rPr>
              <a:t> – </a:t>
            </a:r>
            <a:r>
              <a:rPr b="1" i="1" lang="sr-RS" sz="3200" spc="-1" strike="noStrike">
                <a:solidFill>
                  <a:srgbClr val="00ff00"/>
                </a:solidFill>
                <a:latin typeface="Arial"/>
              </a:rPr>
              <a:t>фертилит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овећа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осетљивост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рецептор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овећан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рој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ских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рецеп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нтермитентн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коков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во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Ексцесив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па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овише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редност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биолошк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ктив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лактина кој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мунореактив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0"/>
          <p:cNvSpPr/>
          <p:nvPr/>
        </p:nvSpPr>
        <p:spPr>
          <a:xfrm>
            <a:off x="3050280" y="237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ЕЊ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68360" y="905040"/>
            <a:ext cx="9437760" cy="63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рансфер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лек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завис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војств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рвото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дојк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астав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Етанол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едациј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б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офеин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будност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хиперак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Никотин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у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грчев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томак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еницили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цефалоспори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цревн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фл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етрациклин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прече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апсорпциј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одојч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loramphenicol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депресиј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коштан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р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soniasid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оштећењ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јетр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б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eparin  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млек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трагу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oclopramid        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стимулиш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ослобађањ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2166840" y="24289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2238480" y="29289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309760" y="3429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5524560" y="38577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3095640" y="43578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3452760" y="48578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2309760" y="535788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2238480" y="585792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3095640" y="628668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6"/>
          <p:cNvSpPr/>
          <p:nvPr/>
        </p:nvSpPr>
        <p:spPr>
          <a:xfrm>
            <a:off x="1095480" y="333360"/>
            <a:ext cx="74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РАЗВОЈ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20880" y="1643040"/>
            <a:ext cx="7056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MAS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HYPOMAS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TE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OLYTE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PLASIA MAMM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OLYMAS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HYPERTROFIO MAMM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VERSIO PAPILL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1311120" y="333360"/>
            <a:ext cx="801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IJAGNOSTIČKE METODE U LAKTAC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920880" y="1643040"/>
            <a:ext cx="78483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NAMN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FIZIKALNI PREG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ULTRZVUK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AMOGRAF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SPIRACIJA TANKOM IGLOM (F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CITOLO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631800" y="1700280"/>
            <a:ext cx="8785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ULTRAZVUČNI ASPEKTI DIJAGNOSTIK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MORA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DOJ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76160" y="1557360"/>
            <a:ext cx="912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ЖЛЕЗДАНО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ТКИ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428760"/>
            <a:ext cx="9906120" cy="10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лвеол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лвеолар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ћел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иоепителн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ћели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разгранат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лој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апилар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об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обул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уктус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актифер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инус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актиф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296880" y="620640"/>
            <a:ext cx="36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PIDEMIOLO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1285920"/>
            <a:ext cx="99061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Godišnje u Srbiji od karcinoma dojke oboli o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4000 ž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Godišnje u Srbiji od karcinoma dojke umre oko 1200 ž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vaki četvrti dijagnostikovani karcinom predstavlja karcinom doj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vaki osmi smrtni slučaj kod žena je prouzrokovan karcinomom doj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vaki stoti karcinom dojke je karcinom muške doj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295800" y="620640"/>
            <a:ext cx="34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KTORI RIZ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1571760"/>
            <a:ext cx="99061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sledjene specifi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čne mutacije u BRCA1 ili BRCA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zitivna anamne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ana menarha/kasna menopau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Žene koje nisu radjale/prvi porodjaj posle 30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Gojazn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ušen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lk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36520" y="549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CIONALNI PROGRAM PREVEN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04880" y="1557360"/>
            <a:ext cx="9201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amopregled dojk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Klinički preg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Ultrazvučni preg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amograf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992160" y="620640"/>
            <a:ext cx="786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EHNIKE ULTRAZVUČNOG PREGLE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76160" y="1557360"/>
            <a:ext cx="912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04880" y="134136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776160" y="645336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RALELNI SKENOVI             RADIJALNI SKENOVI           SKENOVI U ISTOJ RAV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97240" y="6206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IPOVI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76160" y="1557360"/>
            <a:ext cx="9129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Žlezdani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Intermedijarni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Involutivni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566000" y="333360"/>
            <a:ext cx="72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PLA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ZIČNI PROCESI U DOJK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76160" y="714240"/>
            <a:ext cx="91299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Fibrocistična displa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Epitelna hiperpla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2. Sklerozirajuća adeno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3. Radijalni ožilj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4. Duktekta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488880" y="333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ZAPALJENSKI PROCESI U DOJ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36520" y="1508040"/>
            <a:ext cx="4889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INFE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Mastitis laktac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Mastitis tuberkul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flamatorni aps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etroareolarni aps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NEINFE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Comedo mas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ekroza masnog tk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arcinomski mas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11840" y="333360"/>
            <a:ext cx="91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TRAUMATSKE I JATROGENE LEZIJE U DOJ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00160" y="1197000"/>
            <a:ext cx="94899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Nekroza masnog tk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Traumatski hem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Granul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Postoperativni ožilj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Morbus Mondor (trombophlebitis superficialis mamm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565640" y="333360"/>
            <a:ext cx="69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BENIGNI CISTIČNI TUMORI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31800" y="907920"/>
            <a:ext cx="92743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Proste cis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Cistični komple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Inflamirane cis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Proliferativne cis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Hidatidna (ehinokokusna) c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Epidermna c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Sebacealna c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Juvenilna papilomato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565280" y="333360"/>
            <a:ext cx="68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BENIGNI SOLIDNI TUMORI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849240" y="857160"/>
            <a:ext cx="92725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Fibroade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Gigantski fibroade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Juvenilni fibroade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Laktacioni fibroade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Filoidni tumor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traduktalni papi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ФИЗИОЛОШК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ЛОГ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ДОЈ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428840"/>
            <a:ext cx="9906120" cy="11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Естетс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кундар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ксу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рактеристи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Лактаци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схра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новор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ђенчет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33640" y="189000"/>
            <a:ext cx="77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BENIGNI MEZENHIMNI TUMORI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776160" y="620640"/>
            <a:ext cx="94903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Lip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Hamar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Hemang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Hemangioperici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Pseudolimf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Mioblas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Pilomatri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2297520" y="42696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EINVAZIVNI KARCIN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776160" y="2276640"/>
            <a:ext cx="873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traduktal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traduktalni papilarni karcin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Lobularni karcinom in sutu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2575440" y="33336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NVAZIVNI KARCIN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04880" y="1628640"/>
            <a:ext cx="9201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vazivni duktal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vazivni lobular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edular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ucinoz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aget-ova bol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Tubular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denoidni cistič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vazivni komedo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pokri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vazivni papilarni karc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090880" y="33336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KARCINOMI MUŠKE DOJ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04880" y="2143080"/>
            <a:ext cx="92012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Infiltrativni duktalni karcinom (8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edularni ili papilarni karcinom (12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ucinozni karcinom (3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РАЗВО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ТУБУЛ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ЕКРЕТОРНО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УКТАЛНО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ИСТЕМ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928800"/>
            <a:ext cx="9906120" cy="79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етал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ерио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иф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целула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троф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еталн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жлезд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убертет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већа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аналикулар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ом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звој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удноћ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ифер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ктал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убул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-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стпарталн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целулар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троф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иференциј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ФЕТАЛНОМ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ЕРИОД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214200"/>
            <a:ext cx="9906120" cy="83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4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ч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а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6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тинуиран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иферац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чних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ктус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ај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в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о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ођ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26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вар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15-20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пител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ак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будућ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28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вара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ифе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анал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њихов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г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имордијал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актифе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ктус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ч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колостру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УБЕРТЕТ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500040"/>
            <a:ext cx="10096560" cy="73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строге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имулиш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плази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кталног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пител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 сензибилиш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пит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гестерон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имулиш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нзибилиса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пител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з појачан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чењ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их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тер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р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ед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ам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енструаци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етен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ечнос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терлобуларно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кив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јача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аскулар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филтрациј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ром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имфоидним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лазм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мен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ока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завршетк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енструациј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фокал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огњишт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зграђују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ест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ЕНОПАУЗ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0" y="907920"/>
            <a:ext cx="9906120" cy="61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естанак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ејств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естроген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рогесте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Хипоплази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епител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уктусим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цинус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Атрофиј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ој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тром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замењу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тврди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еридукталним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ези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Мас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езивн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ткив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тром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с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ши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постај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Arial"/>
              </a:rPr>
              <a:t>висећ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ОЈК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ТРУДНОЋ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285840"/>
            <a:ext cx="9906120" cy="10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во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иместр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ст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разгранавањ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аналикуларно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мањењ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сно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кив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нтерстицијум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нагомилавањ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имфоцит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озинофил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ћел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лазм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руго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иместр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ањ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тепе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плаз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еће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риместр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плаз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хипертроф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уктус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лвеоларних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ацинус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диференцирациј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секреторн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ти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учењ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мле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Естроге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зазив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10-20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ут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већ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онцентрациј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лактин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лазм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удвоструче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прото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кр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33:48Z</dcterms:created>
  <dc:creator>Goga</dc:creator>
  <dc:description/>
  <dc:language>en-US</dc:language>
  <cp:lastModifiedBy>User</cp:lastModifiedBy>
  <dcterms:modified xsi:type="dcterms:W3CDTF">2012-05-23T10:46:54Z</dcterms:modified>
  <cp:revision>75</cp:revision>
  <dc:subject/>
  <dc:title>Slide 1</dc:title>
</cp:coreProperties>
</file>