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B41-9C6E-414C-894F-7774EC8D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702-D52F-4023-9B60-C1F8E608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0C9-BE58-49A8-9F69-69A9A129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A94-A9B8-4548-A923-2E323182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1E6D-5F33-4818-A2E8-B21E2285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1574-DEB5-41D5-9089-4C797CA2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B253-679C-46B4-9D50-C4AA4A7E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25B9-6C7D-4A3D-B5D4-D7F873B7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D824-864E-4E4E-9998-A3E484F4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DD8D-F52F-4D45-B8F7-F58D773C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E796-0797-4EF7-9A25-48C49FA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E23-23C4-44BE-8D2A-8878BE58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792E-4CB1-4E46-BEB6-4744E5D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703A-C6EF-40EC-A23D-EBAEAA53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FC27-DA46-4111-8E0F-DC1380B5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7B1F-D163-4CB8-A064-0B4F54DF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660D-DDE1-4397-AB17-12BD53AC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727-67C3-41BC-83FB-5C2554F9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64F-581A-4ECF-8A84-9E647807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3C0-A977-434E-A663-99385A6A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3A0-2A6D-41D1-B60C-B051B219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EA5-AD46-4B9B-B28A-E32AC2FD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4EB-DDCC-49E4-BEB7-9C4BE8A1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0D3-0EAD-47C8-8599-B002DF96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>
                <a:gd name="textAreaLeft" fmla="*/ 0 w 9902520"/>
                <a:gd name="textAreaRight" fmla="*/ 9902880 w 990252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55960" y="0"/>
              <a:ext cx="9648000" cy="5148360"/>
            </a:xfrm>
            <a:custGeom>
              <a:avLst/>
              <a:gdLst>
                <a:gd name="textAreaLeft" fmla="*/ 0 w 9648000"/>
                <a:gd name="textAreaRight" fmla="*/ 9648360 w 964800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>
                <a:gd name="textAreaLeft" fmla="*/ 0 w 6944400"/>
                <a:gd name="textAreaRight" fmla="*/ 6944760 w 6944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>
                <a:gd name="textAreaLeft" fmla="*/ 0 w 2958120"/>
                <a:gd name="textAreaRight" fmla="*/ 2958480 w 29581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>
                <a:gd name="textAreaLeft" fmla="*/ 0 w 8227440"/>
                <a:gd name="textAreaRight" fmla="*/ 8227800 w 82274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>
                <a:gd name="textAreaLeft" fmla="*/ 0 w 3678480"/>
                <a:gd name="textAreaRight" fmla="*/ 3678840 w 36784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>
                <a:gd name="textAreaLeft" fmla="*/ 0 w 6224040"/>
                <a:gd name="textAreaRight" fmla="*/ 6224400 w 62240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>
                <a:gd name="textAreaLeft" fmla="*/ 0 w 2414160"/>
                <a:gd name="textAreaRight" fmla="*/ 2414520 w 24141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>
                <a:gd name="textAreaLeft" fmla="*/ 0 w 5432400"/>
                <a:gd name="textAreaRight" fmla="*/ 5432760 w 54324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9419040" y="4108320"/>
              <a:ext cx="484920" cy="53208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219920" y="0"/>
              <a:ext cx="5362200" cy="4251240"/>
            </a:xfrm>
            <a:custGeom>
              <a:avLst/>
              <a:gdLst>
                <a:gd name="textAreaLeft" fmla="*/ 0 w 5362200"/>
                <a:gd name="textAreaRight" fmla="*/ 5362200 w 536220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>
                <a:gd name="textAreaLeft" fmla="*/ 0 w 3780000"/>
                <a:gd name="textAreaRight" fmla="*/ 3780360 w 378000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782560" y="0"/>
              <a:ext cx="983880" cy="1654200"/>
            </a:xfrm>
            <a:custGeom>
              <a:avLst/>
              <a:gdLst>
                <a:gd name="textAreaLeft" fmla="*/ 0 w 983880"/>
                <a:gd name="textAreaRight" fmla="*/ 984240 w 9838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893880" cy="295920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893880" cy="212256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893880" cy="65700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230200" y="0"/>
              <a:ext cx="7666920" cy="5043600"/>
            </a:xfrm>
            <a:custGeom>
              <a:avLst/>
              <a:gdLst>
                <a:gd name="textAreaLeft" fmla="*/ 0 w 7666920"/>
                <a:gd name="textAreaRight" fmla="*/ 7667280 w 766692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>
                <a:gd name="textAreaLeft" fmla="*/ 0 w 4184280"/>
                <a:gd name="textAreaRight" fmla="*/ 4184640 w 418428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792840" y="0"/>
              <a:ext cx="3104280" cy="3911760"/>
            </a:xfrm>
            <a:custGeom>
              <a:avLst/>
              <a:gdLst>
                <a:gd name="textAreaLeft" fmla="*/ 0 w 3104280"/>
                <a:gd name="textAreaRight" fmla="*/ 3104640 w 310428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>
                <a:gd name="textAreaLeft" fmla="*/ 0 w 2123640"/>
                <a:gd name="textAreaRight" fmla="*/ 2124000 w 21236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8072640" y="0"/>
              <a:ext cx="1824480" cy="3073320"/>
            </a:xfrm>
            <a:custGeom>
              <a:avLst/>
              <a:gdLst>
                <a:gd name="textAreaLeft" fmla="*/ 0 w 1824480"/>
                <a:gd name="textAreaRight" fmla="*/ 1824840 w 182448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8566200" y="0"/>
              <a:ext cx="1330920" cy="236052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>
                  <a:gd name="textAreaLeft" fmla="*/ 0 w 6311520"/>
                  <a:gd name="textAreaRight" fmla="*/ 6311880 w 631152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>
                  <a:gd name="textAreaLeft" fmla="*/ 0 w 3632040"/>
                  <a:gd name="textAreaRight" fmla="*/ 3632400 w 363204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5B99-8B5D-466B-A83A-1F25E58A713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>
                <a:gd name="textAreaLeft" fmla="*/ 0 w 9902520"/>
                <a:gd name="textAreaRight" fmla="*/ 9902880 w 990252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55960" y="0"/>
              <a:ext cx="9648000" cy="5148360"/>
            </a:xfrm>
            <a:custGeom>
              <a:avLst/>
              <a:gdLst>
                <a:gd name="textAreaLeft" fmla="*/ 0 w 9648000"/>
                <a:gd name="textAreaRight" fmla="*/ 9648360 w 964800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>
                <a:gd name="textAreaLeft" fmla="*/ 0 w 6944400"/>
                <a:gd name="textAreaRight" fmla="*/ 6944760 w 6944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>
                <a:gd name="textAreaLeft" fmla="*/ 0 w 2958120"/>
                <a:gd name="textAreaRight" fmla="*/ 2958480 w 29581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>
                <a:gd name="textAreaLeft" fmla="*/ 0 w 8227440"/>
                <a:gd name="textAreaRight" fmla="*/ 8227800 w 82274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>
                <a:gd name="textAreaLeft" fmla="*/ 0 w 3678480"/>
                <a:gd name="textAreaRight" fmla="*/ 3678840 w 36784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>
                <a:gd name="textAreaLeft" fmla="*/ 0 w 6224040"/>
                <a:gd name="textAreaRight" fmla="*/ 6224400 w 62240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>
                <a:gd name="textAreaLeft" fmla="*/ 0 w 2414160"/>
                <a:gd name="textAreaRight" fmla="*/ 2414520 w 24141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>
                <a:gd name="textAreaLeft" fmla="*/ 0 w 5432400"/>
                <a:gd name="textAreaRight" fmla="*/ 5432760 w 54324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9419040" y="4108320"/>
              <a:ext cx="484920" cy="53208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4219920" y="0"/>
              <a:ext cx="5362200" cy="4251240"/>
            </a:xfrm>
            <a:custGeom>
              <a:avLst/>
              <a:gdLst>
                <a:gd name="textAreaLeft" fmla="*/ 0 w 5362200"/>
                <a:gd name="textAreaRight" fmla="*/ 5362200 w 536220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>
                <a:gd name="textAreaLeft" fmla="*/ 0 w 3780000"/>
                <a:gd name="textAreaRight" fmla="*/ 3780360 w 378000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782560" y="0"/>
              <a:ext cx="983880" cy="1654200"/>
            </a:xfrm>
            <a:custGeom>
              <a:avLst/>
              <a:gdLst>
                <a:gd name="textAreaLeft" fmla="*/ 0 w 983880"/>
                <a:gd name="textAreaRight" fmla="*/ 984240 w 9838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893880" cy="295920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893880" cy="212256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893880" cy="65700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230200" y="0"/>
              <a:ext cx="7666920" cy="5043600"/>
            </a:xfrm>
            <a:custGeom>
              <a:avLst/>
              <a:gdLst>
                <a:gd name="textAreaLeft" fmla="*/ 0 w 7666920"/>
                <a:gd name="textAreaRight" fmla="*/ 7667280 w 766692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>
                <a:gd name="textAreaLeft" fmla="*/ 0 w 4184280"/>
                <a:gd name="textAreaRight" fmla="*/ 4184640 w 418428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792840" y="0"/>
              <a:ext cx="3104280" cy="3911760"/>
            </a:xfrm>
            <a:custGeom>
              <a:avLst/>
              <a:gdLst>
                <a:gd name="textAreaLeft" fmla="*/ 0 w 3104280"/>
                <a:gd name="textAreaRight" fmla="*/ 3104640 w 310428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>
                <a:gd name="textAreaLeft" fmla="*/ 0 w 2123640"/>
                <a:gd name="textAreaRight" fmla="*/ 2124000 w 21236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8072640" y="0"/>
              <a:ext cx="1824480" cy="3073320"/>
            </a:xfrm>
            <a:custGeom>
              <a:avLst/>
              <a:gdLst>
                <a:gd name="textAreaLeft" fmla="*/ 0 w 1824480"/>
                <a:gd name="textAreaRight" fmla="*/ 1824840 w 182448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8566200" y="0"/>
              <a:ext cx="1330920" cy="236052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>
                  <a:gd name="textAreaLeft" fmla="*/ 0 w 6311520"/>
                  <a:gd name="textAreaRight" fmla="*/ 6311880 w 631152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>
                  <a:gd name="textAreaLeft" fmla="*/ 0 w 3632040"/>
                  <a:gd name="textAreaRight" fmla="*/ 3632400 w 363204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CCD6-E51B-42EE-9773-390ABC8DB86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2082240" y="404640"/>
            <a:ext cx="57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RIMENA LEKOVA U TRUDNO</a:t>
            </a:r>
            <a:r>
              <a:rPr b="1" lang="sr-Latn-CS" sz="2800" spc="-1" strike="noStrike">
                <a:solidFill>
                  <a:srgbClr val="00ff00"/>
                </a:solidFill>
                <a:latin typeface="Arial"/>
              </a:rPr>
              <a:t>Ć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76160" y="1557360"/>
            <a:ext cx="912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Lekovi u trudnoći se mogu primenjivati sa cilj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Lečenja bolesti majke (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lon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Lečenja bolesti koja pogađa i plod i majku (sifi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Lečenja bolesti koja pogađa plod (aritmije u srčanom radu plod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861120" y="476280"/>
            <a:ext cx="80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SPECIJALNA PRIMENA LEKOVA U TRUDNOĆ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0" y="1341360"/>
            <a:ext cx="9906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retećeg ili započetog spontanog pobačaja (progester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risutnih antifosfolipidnih antitela – lupus antikoagulantna i antikardiolipinska (pronizon 5 mg/dnevno, aspirin 70-80 mg/dnevno, fraxiparin I.J. / T.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toksoplazmoze (spiramicin 2-3 g/dnevno per os, sulfonamid nakon 20 N.G. Nelečeni slučajevi duplo više sekvela kod neonatu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respiratornog distres sindroma (deksametaz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12 mg/12h, tiroksin 500 mg/dnevn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olihidramniona (indometacin 3mg /kg, per os - rektaln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1052640"/>
            <a:ext cx="9906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intraventrikularne hemoragije pretemporarijusa (fenobarbiton pre porodjaja, vitamin K 10mg i.m. ↑ sintezu faktora koagulaci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IUGR zbog preeklampsije (aspirin 100 mg/dnevno, ↓ sintezu tromboksana – snažan vazokonstrik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revremenog prsnuća plodovih ovojaka (ampicilin, cefalospor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intrauterine reanimacije ploda (2 amp. Pre-par u 500ml, 5% glukoze, 40ml 50% glycosa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aritmije fetalnog srca (digitalis 0,25 – 0,75 mg/dnevno, propranolol – verapamil 40 mg/12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350720" y="47628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PRIMENA ANTIBIOTIKA U AKUŠERST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00160" y="1125360"/>
            <a:ext cx="9705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etracyclini (doze veće od 2g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  kod majke masna atrofija jetre, oštećenje pankreasa i bubrega, kod ploda poremećaj u razvoju kostiju i tamnu prebojenost zu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ulphonamidi         kenikterus novorođenčeta – istiskuju bilirubin iz spoja sa albumin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hloramphenicol         slabija detoksikacija - grey sindrom (distenzija abdomena, cijanoza, kolaps, sm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rteptomycin           oštećenje osmog kranijalnog nerva pl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ronidasol           kod glodara pojava karcino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iphampicin           kod životinja teratogena svojs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881600" y="134136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720880" y="285264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3152880" y="357336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2720880" y="465300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720880" y="537372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2649600" y="609300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3177360" y="476280"/>
            <a:ext cx="34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DOJENJE I LEKO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23800" y="1143000"/>
            <a:ext cx="938232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Transfer leka u mleko zavisi od svojstva leka, krvotoka dojke i sastava mleka. Slabe baze su u kiseloj plazmi slabo jonizovane, pa prelaze u mleko gde se jonizuju. Slabih kiselina ima u manjoj ko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tanol          sedacija be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fein          budnost, hiperak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Nikotin          muka, povraćanje, grčevi u stomaku, prol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enicilini i cefalosporini           poremećaj crevne fl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etraciklini         sprečena apsorpcija leka kod odojč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hloramphenicol         depresija koštane srž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soniazid         oštećenje jetre be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Heparin           u mleku samo u trag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oclopramid        stimuliše oslobađanje prolak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2073240" y="263700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073240" y="314172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2073240" y="364500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4305240" y="407664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>
            <a:off x="2576520" y="458136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3368520" y="501336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2216160" y="551664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2216160" y="609300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3081240" y="652464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2440800" y="476280"/>
            <a:ext cx="49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VAKCINACIJA U TRUDNOĆ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72880" y="1214280"/>
            <a:ext cx="916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akcinacijom se postiže imunizacija i može se efikasno preduprediti nastanak mnogih teških bolesti, a klinička slika i komplikacije se mogu značajno ublaži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ktivna imunizacija (davanje umrtvljenih živih sojeva mikroorganizama, mrtvih mikroba, delova mikroba ili egzotoksina – toksoida)        produkcija antitela i dugotrajna zašti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asivna imunizacija (davanje preparata sa prethodno stvorenim antitelima protiv određene bolesti)        nastupa odmah i relativno kratko traje – kratak poluživot IgG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4160880" y="364500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6897600" y="508464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2440800" y="476280"/>
            <a:ext cx="49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VAKCINACIJA U TRUDNOĆ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72880" y="1197000"/>
            <a:ext cx="9166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Prilikom davanja vakcine mogu se javiti odredjene reakcije u vidu lokalnog otoka, crvenila, bo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Osobe sa imunodeficijencijom ne priumaju žive vakcin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akcina protiv rubele – bolovi u predelu zglob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akcina protiv pertusisa – hiperpirekcija, encefalopat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akcina protiv tetanusa – kožna reakcija (Artusov fenom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MR vakcinu ne primaju osobe oserljive na Neomicin i kokošija j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lio vakcinu ne primaju osobe oserljive na Streptomic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Žive vakcine mogu izazvati patnju ploda i teratogeni efekat – upotreba samo kada je benefit veći od mogućih posle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2797920" y="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REGLED P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JEDINIH VAKC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2880" y="528480"/>
          <a:ext cx="9217080" cy="6336000"/>
        </p:xfrm>
        <a:graphic>
          <a:graphicData uri="http://schemas.openxmlformats.org/drawingml/2006/table">
            <a:tbl>
              <a:tblPr/>
              <a:tblGrid>
                <a:gridCol w="3384720"/>
                <a:gridCol w="3095640"/>
                <a:gridCol w="2736720"/>
              </a:tblGrid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AKC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MOGUĆA PRIMENA U TRUDNOĆI AKO POSTOJI INDIKACI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PRIMENA U TRUDNOĆI KONTRAINDIKOVA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trak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teri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patitis 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patitis 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emophilus influencae tip 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luenca (inaktivisana vakcin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luenca (živa vakcin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ole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u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panski encefalit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ningoko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rbi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m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tu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neumokok konjugovana vakc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neumokok polisaharidna vakc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lio (IPV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lio (OPV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b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b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tan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bušni tif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laremi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rič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Žuta groz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3008160" y="33336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00"/>
                </a:solidFill>
                <a:latin typeface="Arial"/>
              </a:rPr>
              <a:t>ŠOK U AKUŠERST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09200" y="1197000"/>
            <a:ext cx="91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Šok se definiše kao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“prestanak efikasne cirkulacije na nivou ćelije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087000" y="2637000"/>
            <a:ext cx="36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HEMORAGIČKI Š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44520" y="3645000"/>
            <a:ext cx="934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U odmakloj trudnoći krvarenje je posledica: abruptio placentae, placenta praevia, toksemi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ntrapartalno i postpartalno krvarenje je posledica: carskog reza, atonije uterusa, laceracije, zaostale placente, inverzije uterusa, urasle p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lj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013920" y="189000"/>
            <a:ext cx="36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HEMORAGIČKI Š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-10440" y="907920"/>
            <a:ext cx="960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Posthemoragički šok       Vazomotorni šok             Kardiogeni š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                                     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(paralitični-peritoneln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02320" y="1916280"/>
            <a:ext cx="306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lacenta prae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bruptio placent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uptura ut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uptura arteria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uterin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indrom vene ka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152880" y="1916280"/>
            <a:ext cx="388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uptura ut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ppendicitis perfor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orsio tu. Ovar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rombosis vv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senter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artus protrac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horioamnion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piduralna anestez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D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792840" y="1916280"/>
            <a:ext cx="311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nfarctus myocard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itium cord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mbolija plodovom  vo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089360" y="189000"/>
            <a:ext cx="74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FIZIOLOŠKE REAKCIJE NA GUBITAK KR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00160" y="836640"/>
            <a:ext cx="9705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eceptori u karotidnom sinusu i velikim arterijama u grudnoj duplji reaguju na promene napetosti zida krvnog suda, aktivirajući simpatički nervni sistem i koru nadbubre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zitivni inotropni efe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zitivni hronotropni efe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ećani minutni volumen sr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nižen filtracioni pritisak u kapilar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manjenje filtracionog pritiska u glomerul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ećano lučenje renina         povećana produkcija aldosterona i  angiotenzina 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ktivacija generalizovanog venskog reflek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ubrzana sinteza proteina, albumina, fibrinogena, faktora koagulacije i eritropoe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4089240" y="436572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785880" y="189000"/>
            <a:ext cx="85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OPŠTI PRINCIPI PRIMENE LEKOVA U TRUDNOĆ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72880" y="836640"/>
            <a:ext cx="914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Farmakodinamska svojstva leka (dejstvo leka na organizam ili pojedine organe – ono što lek čini organizm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Farmakokinetska svojstva leka (apsorpcija, transfer, metabolizam, razgradnja i izlučivanje leka iz organizma – ono što organizam čini leku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560520" y="2708280"/>
          <a:ext cx="87850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2708280"/>
                    <a:ext cx="87850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3713040" y="18900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FAZE ŠO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836640"/>
            <a:ext cx="9906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Prva faz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– kompenzovani šok: normotona tahikardija, faza centralizacije (smanjenje amplitude krvnog pritiska), tahikardija, hladoća i bledilo kože, indeks šoka (puls / sistolni krvni pritisak) je 1,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Druga faz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– dekompenzovani šok: hipotonatahikardija, poremećaj mikrocirkulacije u vitalnim organima, smanjenje sistolnog pritiska (60-80 mmHg), tahikardija, oligurija (manje od 30 ml/h) hladna cijanotična koža, duboko disanje, acidoza, indeks šoka 1,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Treća faz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– ireverzibilni šok: nekompenzovane hipoksične i acidotične promene na vitalnim organima, smanjenje sistolnog pritiska (manje od 50 mmHg), tahikardija, anurija, acidoza, duboko disanje, somnolencija, indeks šoka veći od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1866600" y="620640"/>
            <a:ext cx="61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ETABOLIČKE PROMENE U ŠO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0" y="1844640"/>
            <a:ext cx="990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abolizam proteina       povećane količine uree i mokraćne kiseline u serum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abolizam masti        povećan nivo slobodnih masnih kisel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abolizam ugljenih hidrata         povećana glikem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440160" y="242100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3081240" y="357336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4521240" y="429264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2586240" y="189000"/>
            <a:ext cx="46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KLINIČKA RAZMATRA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852840" y="981000"/>
            <a:ext cx="76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Posthemoragični š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ubpartalni šok sa vaginalnim krvarenj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ubpartalni šok sa unutrašnjim krvarenj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ubpartalni šok usled rupture a.uterin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ubpartalni šok bez gubitka krvi (sindrom vene kav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854640" y="3068640"/>
            <a:ext cx="607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Vazomotorni (peritonelni) šok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rupture uter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erforativnog apendicit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roduženog porođ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epiduralne anestez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chorioamnionitisa (endotoksični šok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853920" y="5516640"/>
            <a:ext cx="40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Kardiogeni š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nfarctus myocard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mbolija plodovom vo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3373560" y="333360"/>
            <a:ext cx="30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TERAPIJA ŠO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72880" y="1413000"/>
            <a:ext cx="96332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nzervativni tretman: tamponada, amp. oxytocin, amp.  prostaglandin (E</a:t>
            </a:r>
            <a:r>
              <a:rPr b="0" lang="sr-Latn-C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l-GR" sz="2400" spc="-1" strike="noStrike" baseline="-25000">
                <a:solidFill>
                  <a:srgbClr val="ffff00"/>
                </a:solidFill>
                <a:latin typeface="Arial"/>
              </a:rPr>
              <a:t>α</a:t>
            </a:r>
            <a:r>
              <a:rPr b="0" lang="sr-Latn-CS" sz="2400" spc="-1" strike="noStrike" baseline="-25000">
                <a:solidFill>
                  <a:srgbClr val="ffff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sr-Latn-C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l-GR" sz="2400" spc="-1" strike="noStrike" baseline="-25000">
                <a:solidFill>
                  <a:srgbClr val="ffff00"/>
                </a:solidFill>
                <a:latin typeface="Arial"/>
              </a:rPr>
              <a:t>α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Hirurški postupci: podvezivanje a.uterinae, a.hypogastricae, puerperalna histerektom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Nadoknada volumena krvi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) kristaloidi (Ringer – laktat, fiziološki rastv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b) koloidi (zamenici plazme – Dekstran, serum albumini, puna krv, eritrociti, trombociti, sveža smrznuta plazm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0" y="620640"/>
            <a:ext cx="9906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Transfer leka u placentno – fetalnu jedinicu zavisi od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Fizičko - hemijskih osobina leka (molekulska težina, liposolubilnost, stepen jonizovanos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Debljine – zrelosti postelj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rokrvljenosti postelj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aboličke aktivnosti postelj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Gradijenta Ph između krvi majke i plod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↑transfer baznih supstanc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meabilnosti barijera (krvno-moždana), metabolizma u jetri fetusa, ekskrecije putem posteljice i fetalnih bubre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643320" y="333360"/>
            <a:ext cx="85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SUDBUINA LEKA 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ATERNO – PLACENTNO – FETALNOJ JEDINI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415800" y="1700280"/>
          <a:ext cx="93456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700280"/>
                    <a:ext cx="9345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488880" y="33336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NATOMSKE I FIZIOLOŠKE PROMENE U ORGANIZMU TRUDNICE KOJE UTIČU NA SUDBINU L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1341360"/>
            <a:ext cx="9906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manjena peristaltika digestivnog trakta (</a:t>
            </a: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povećana apsorpcija hidrosolubilnih lekov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uka i povraćanje (u ranoj trudnoć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išen cirkulatorni volumen (u zadnjem trimestru za 3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išen minutni srčani volum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išen renalni krvni protok (za 25 – 50 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ećana glomerularna filtracija (za 50%) – </a:t>
            </a: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povećana eliminaci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nižene vrednosti albumina u plazmi (za oko 1g / 100ml) – </a:t>
            </a: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povećane koncentracije slobodnog l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normni porast telesne tež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ećana prokrvljenost kož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428400" y="620640"/>
            <a:ext cx="90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PRIMENA LEKOVA U TRUDNOĆI I TERATOGEN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1285920"/>
            <a:ext cx="9906120" cy="59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rema definiciji Svetske zdravstvene organizacije, teratogeneza predstavlja naučnu disciplinu koja izučava neželjene efekte na morfološkom, biohemijskom i psihološkom planu, koji se mogu javiti kod ploda u razvoj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Mali broj dokazano teratogenih lekova, najveći broj sumnjivi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Najosetljiviji periodi za malformaci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CNS 15. – 25. 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Srce 20. – 40. 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Ekstremiteti 24. – 46. 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502280" y="18900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FDA KATEGORIZACIJA LEKOVA U TRUDNOĆ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15800" y="692280"/>
          <a:ext cx="9217080" cy="5797440"/>
        </p:xfrm>
        <a:graphic>
          <a:graphicData uri="http://schemas.openxmlformats.org/drawingml/2006/table">
            <a:tbl>
              <a:tblPr/>
              <a:tblGrid>
                <a:gridCol w="4608720"/>
                <a:gridCol w="4608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POTREBA U TRUDNOĆ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POTREBA TOKOM DOJEN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= “Najbolji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pitivanja nisu pokaz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 rizik za plod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 toj kategoriji je jako malo lekov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vitamini rastvorljivi u vodi, in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lin, tiroks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1 = Najsigurnij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z rizika u kontrolisanim ogledim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insulin, hepar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 = “Dobr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je nađen rizik za plod kod životinja, ali nije bilo ogleda na ljudima i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zik postoji kod životinja, ali u sprovedenim studijama nije dokazan kod ljudi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većina antibioti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2 = Sigur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učeni na manjem broju žen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nitrofurantoin, cefalosporini, druga generacija antihistaminika, prednison, selektivni inhibitor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čuvanj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 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roton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 = “Oprez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željeni efekti kod životinja, nema podataka za lju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atropin, sulfacetam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ćina lekova je u klasi “C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3 = Umereno sigur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su proučavani ili minimalni rizik u ispitivanjim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antihistaminici prve generaci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 (M) = Proizvođač zahteva klasu C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riginalno bi se mogli svrstati i u “B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= “Opasni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kazan rizik za plod kod čovek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Čuvati za po život opasna stanj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ACE inhibitori, Eftil (</a:t>
                      </a:r>
                      <a:r>
                        <a:rPr b="0" lang="sr-Latn-C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Kepra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hipotenzija fetusa i agenezija bubreg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4 = Rizič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kazani neželjeni efekti, razmatrati samo ako je ugrožen život majke, prekinuti dojenj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litium, derivati ergotam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 = Dokazani teratogeni efeka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 sme se davati u trudnući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talidomid, varfarin, metotreksat, alfa-2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nterfer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5 = Kontraindi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ova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Značajan potvrđen rizik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radioaktivni izotopi, kokain, ACE inhibitor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427400" y="0"/>
            <a:ext cx="68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REGLED SIGURNO TERATOGENIH LEK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2880" y="557280"/>
          <a:ext cx="9217080" cy="6316560"/>
        </p:xfrm>
        <a:graphic>
          <a:graphicData uri="http://schemas.openxmlformats.org/drawingml/2006/table">
            <a:tbl>
              <a:tblPr/>
              <a:tblGrid>
                <a:gridCol w="2016360"/>
                <a:gridCol w="2592360"/>
                <a:gridCol w="1800360"/>
                <a:gridCol w="2808000"/>
              </a:tblGrid>
              <a:tr h="32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LEK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EFEKA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LEK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EFEKA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inopterin (antimet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olit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bačaj, anomalije skele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thanol (zloupotreba alkohola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r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facijalne i nenormalnosti ekstremiteta, mikrocefalij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-Azauridin (citostatik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bačaj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-Fluorouracil (antimetabolit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družene anomalije unutrašnjih orga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sulfan (alkilirajući citostatik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ltiple visceralne anomalij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odidi (antitusik, antiseptik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etalna struma, PPRO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amazepin (antikonvulziv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raniofacijaln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, kardiovaskularne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,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alformacije centralnog nervnog siste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enytoin (antikonvulziv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dantoinski sindrom, vučija čeljust, vučija usna, mikrocefalija, mentalna retardacija, neuroblasto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lorambucil (alkilirajući citostat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enenezija bubreg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thotrexat (antimetabolit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omalije skeleta, smrt plod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loroquin (antimalarik, amebicid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otoksičnos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thiumcarbonat (antidepresiv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ardivaskularne malformacij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yclophosphamid (alkilirajući citostatik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lformacija prstiju, oka, rascep nepc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stosteron (androge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irilizacija ženske de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ytarabin (antimetabolit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fekti ekstremiteta i deformacije uv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tracyclini (antibiotici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ojenost zub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ethylstilbestrol (sintetski estroge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enoza vagine i uterusa, hipotrofija testisa, neplodnos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lidomid (sedativ, trankv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n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komelija, atrezija ezofagu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, anomalije lica i sluh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xycycline (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tibiotik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ojenost zub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lpr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c acid (antikonvulziv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fekt n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ralne tube, anomalije lica i prstiju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146960" y="404640"/>
            <a:ext cx="80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LEKOVI SA VEROVATNIM TERATOGEN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DEJSTV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4520" y="1341360"/>
          <a:ext cx="9217080" cy="4724640"/>
        </p:xfrm>
        <a:graphic>
          <a:graphicData uri="http://schemas.openxmlformats.org/drawingml/2006/table">
            <a:tbl>
              <a:tblPr/>
              <a:tblGrid>
                <a:gridCol w="2016000"/>
                <a:gridCol w="2592360"/>
                <a:gridCol w="1944720"/>
                <a:gridCol w="266400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L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EFEK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L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EFEK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pitriptylin (triciklični antidepresiv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Češće malformac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chlorethamin (alkilirajući citostatik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brežne, kraniofacijalne i anomalije ekstremit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pirin (inhibitor sinteze prostaglandin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Češće malformac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clizin (antihistminik, antiemetik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omalije usta i l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dein (analgetik i antitusik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zne malformac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droxyprogesteron (hormo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pertrofija klitorisa, hipospadi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zepam (trankvilans, miorelaksa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omalije usta, lica i sr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enilephrin (vazokonstrikt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zne i nestalne anomal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7-</a:t>
                      </a: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tradiol (estroge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itourinarne anomal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enylpropanolamin (vazokonstrikt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zne i nestalne prome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operidol (psihofarmak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sigurne anomal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iamcinolon (sitetski glikokortikosteroi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od čoveka nejas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1:33:48Z</dcterms:created>
  <dc:creator>Goga</dc:creator>
  <dc:description/>
  <dc:language>en-US</dc:language>
  <cp:lastModifiedBy>User</cp:lastModifiedBy>
  <dcterms:modified xsi:type="dcterms:W3CDTF">2014-06-03T11:33:37Z</dcterms:modified>
  <cp:revision>69</cp:revision>
  <dc:subject/>
  <dc:title>Slide 1</dc:title>
</cp:coreProperties>
</file>